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235-7FCF-4E40-8A99-4BC38835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790-2BE1-4A2D-B554-C5CA0D6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B07-363E-4937-B915-C836323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0D4-6B67-4C0A-BD1F-73F0FDE5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786-3C7E-49B9-A8AB-61A7ADA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D5F-F09F-4541-A688-4885AAA9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0BF-6BAF-4BAC-8538-14BE158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6BC-E062-42AA-8276-207F0B4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560-21F1-4A13-BF48-93DC2A6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E0C-05AB-42B8-BEB4-1FC6F30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D33-D3AF-4613-9D12-8B97EE2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FF8-0D61-48C7-B805-D1AD17BA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19D-DFCB-4AF3-BCD1-B131ED5D507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راك اله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راك بنور الصّباح الحنون بلون الأزاهير فوق الغصو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سمع صوتك في كلّ صوب و اصغي اليك بقلب سك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84464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متّع عيني بكلّ الرّب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بصر فيها جمال يس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محبّة فادي تغمر نفس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تبعث فيّ التّقى و الخش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300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عرفتك دوما تشع ضيا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و فوق الصّليب رجاء الفد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سكنت فؤادي و نوّرت فك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زال عذابي و زال الشّق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70028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 (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Personal</cp:lastModifiedBy>
  <dcterms:modified xsi:type="dcterms:W3CDTF">2008-04-24T05:16:04Z</dcterms:modified>
  <cp:revision>7</cp:revision>
  <dc:subject/>
  <dc:title>Slide 1</dc:title>
</cp:coreProperties>
</file>